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4DC-188D-4F56-89BB-A677285D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893F-E9BD-4C10-B462-3870D807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3EE-DE67-432F-9F02-F46999F2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A6A-1EE2-48DF-9EC6-CA849C3D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2FCA-986F-41A8-B552-3DD6A5AA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1C9F-9716-4407-846C-3FE460F4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958F-1F3D-4848-B626-73FAE7FC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8E82-67F2-4C78-87DF-DE74C5C2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33B7-3745-4BB9-A3F9-C1445B08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4378-3885-4C6A-90C9-9F8A770A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2B6F-465B-4B09-A22B-09C6C59A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239-FA1A-4F4C-B6E2-163192E9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37AE-A892-423B-8E6F-BBDDBCB6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6D91-414F-46E0-A5A5-B8794A85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2980-1E90-4388-A5B1-442E7CCE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023C-1FC4-42AD-874A-8E3F08A2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01FA-3E0E-4787-8461-183BC5CF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B01-5B06-414F-BB80-67A48D44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E706-0BC6-44DE-8591-452C66DB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679A-FAA7-4AAD-B53E-254F35C8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EB4-210A-472C-822A-6C43771C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FA3B-6CD1-46BF-88CC-524735CF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32C-B34E-4513-883D-B5D699D7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87F-BFF1-4D5E-B71C-D8770384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DF0C-CDB6-4C63-8B69-B35BF9353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7417-9ED0-497A-9988-82A45A688C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523880"/>
            <a:ext cx="899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rt 15 do Código de Min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A autorização de pesquisa será outorgada pelo D.N.P.M. a brasileiros, pessoa natural, firma individual ou empresas legalmente habilitadas, mediante requerimento do interess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ágrafo Único - Os trabalhos necessários à pesquisa serão executados sob a responsabilidade profissional de engenheiro de minas, ou de geólogo, habilitado ao exercício da profissã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21:59:55Z</dcterms:created>
  <dc:creator>Alexandre Braule</dc:creator>
  <dc:description/>
  <dc:language>en-US</dc:language>
  <cp:lastModifiedBy>Alexandre Braule</cp:lastModifiedBy>
  <dcterms:modified xsi:type="dcterms:W3CDTF">2004-08-11T12:39:13Z</dcterms:modified>
  <cp:revision>56</cp:revision>
  <dc:subject/>
  <dc:title>Apresentação do PowerPoint</dc:title>
</cp:coreProperties>
</file>